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8AC4-BC7E-45F0-831E-D0F6D2324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uryuyuy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210-2756-4882-A4C5-AFE5C576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55C-B479-4AFF-80A7-F509E2BF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7AE-C5E5-46E4-8335-F5F80190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F6B-FB20-43C5-B676-428748E2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82C80-9B6C-454E-983E-BA6D6A34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98DD-C2D3-46AC-AC6B-492A173F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4AE67-029E-4CE1-82F2-1CC8EF7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04B94-5E73-47E8-8863-13E4E78F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1DCF4-8F8A-4330-859F-C2797D14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CAE26-A71C-4599-8499-5BCDA3F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3EAB-9711-4D39-ACFE-6784C734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BB6-E3FF-4734-9203-DE917769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DA671-858D-4803-8A90-6118ABF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64670-465E-4EA7-B97A-549A61F6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AA514-AE23-4DDB-8CD7-1FAF0E3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04222-15AF-4189-9FB3-EF965E85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55C7-7E3E-4DFF-AE7E-7B6320FD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C0457-57F3-4201-9AB8-A69B2425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E6C27-2F0D-433B-ABC0-CB04B825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576B7-EA9A-4788-A00F-29866D0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29D1C-905C-484A-93AD-A1EB2B76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1F00A-FAAC-4599-8D2D-27B6ABE2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04E-E341-4FC1-8488-D58EF5FE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2721B-0CE5-4104-8650-30E2A54A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7C9DF-44DD-420D-93D4-4336E287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6B295-DACC-4A35-9852-7E8F3BC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28361-7C96-4E81-BF31-17A995E1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E3903-A3B2-420F-A380-879AB339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B1763-8A56-4658-B0FB-A4B7FAB1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64518-E107-4C40-A3F0-D24EB484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40408-A33D-484A-947B-8A54E0EF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92C9-B055-445F-A7CE-0FC8608A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40954-3051-4F86-97D5-71CE608B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DC3-3FC2-4037-97C4-27743873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4827-E400-4849-941E-B9C6228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61A4-5819-4ABF-9089-0F049265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2E4B-7017-4609-BF87-9FDE39B0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746F-E082-490A-BAA2-C1034E4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80A4C-7276-48D1-9182-30A310CF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CCBC-E1D3-4970-B777-93A14C5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FFB60-A8B5-415B-A756-8B7F644E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EB77-5371-40F2-A05E-4C7F04CD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8BA7-DEDD-45F4-9D84-A555665D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2E599-DB16-4F51-934E-5BDBCA20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2A5-F822-4047-B0F2-82FDAC0E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151AA-D456-4A05-A8BD-430DD184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16678-AA4D-41F1-9E81-9B976B30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4C14E-7B9B-4B5F-82E7-6C991BC9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8A503-B97D-4695-8E55-4FB79DE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2E89D4-4D6D-4773-B138-EACFEEDC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BF75E-EB94-4539-A71B-C61684F6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F0280-C14D-4653-8CBC-115552DE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B1CE2-639C-4A1B-A2D5-C95F901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E678D-6022-488C-B561-D4F4772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EFEA60-47BA-4025-B82D-B49CA18F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B69-D744-4E15-A078-5AC22DFF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6DEB8-277E-405F-8AAC-BE124C8E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159B4-2A31-4525-935D-6022D46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718F-A864-49EB-88CC-68E3C1A7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532D4-E8F5-45D8-B167-999C427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B852A-A2F6-499C-BE2D-C5492F4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C19A0-0A62-4D39-962F-58DD38E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53F8-25D8-4B51-85E5-EDBA360D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F0708-FC58-4982-96B6-D509051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D6E6C-9AB6-43EA-84DD-CB6E64D7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0A9D8-1454-48A8-94D3-2F5CFBA8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F1F-DDA7-4882-BAAE-F56E870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54B9-F85E-4798-B0A2-6AEC1169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E8D9C-44C3-452C-A4E2-67ED24E0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23BF-B9E9-4C66-B9C6-837DE013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462-4E61-4EC1-A0D0-5A6603C1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A19-824A-4289-9257-ED51F51A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663A-4BA5-4A68-9B8A-B0C3DED6F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CF7A-6D01-43F8-877D-B5999499F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8906-336A-474C-9ED0-90591B6163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F4CD-23CF-4357-BE64-69CCC23C4E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858A-3A16-4399-903F-6FBCDE5CC9C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4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2758-D75E-4A9E-81D2-3E1BB0321B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Science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7640"/>
            <a:ext cx="6400800" cy="17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RICARDO 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HERRERA</a:t>
            </a: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2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ro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low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row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4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Hypothesi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vestigation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ferenc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dependent variables 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insul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exhausti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aterial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tmosphe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Is the 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surround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 pla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rebuchet M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tt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o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1720" y="385560"/>
            <a:ext cx="7105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ature of Sci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n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cea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hysical Sci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Procedures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physical properti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qualitative observ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quantitative observ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apaci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Is the maximum amount that can be held or take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newab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scientific observation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edi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Scale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i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sourc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yste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mme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x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ather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Garamond"/>
              </a:rPr>
              <a:t>Comb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o put two or more substance togeth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0.09422 L 0.11667 -0.09422 E">
                                      <p:cBhvr>
                                        <p:cTn id="57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 Sec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 Sec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33520" y="11426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dependent variabl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position of Sedi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ssolving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11a Elementary School</cp:lastModifiedBy>
  <dcterms:modified xsi:type="dcterms:W3CDTF">2009-04-27T17:57:38Z</dcterms:modified>
  <cp:revision>16</cp:revision>
  <dc:subject/>
  <dc:title>Science Terms</dc:title>
</cp:coreProperties>
</file>